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50A-A9E8-4C6A-98FB-7A9CA0D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F6C-AD5D-4FF6-96F0-78227FBD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C74-8724-4594-A5D8-463B880C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9EB-8D4D-48D4-B9B5-9B7AEF82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157-3AD3-4597-816F-2F5C257F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D77-BFA8-4A17-B510-3E6E9E68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983-4FA6-4406-9FA5-68EA64B4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A77-04BB-49E9-82C0-4228E7D2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F67-2A9A-4538-937F-3326A29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DFE-338A-4C8E-8D97-65FF34B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901-752F-4135-A47F-8E05D70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51E-57C0-47AC-99D1-000A65B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2B4DC-DE0B-4C4C-B770-B577EEB23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1012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S Summe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046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promot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76360" y="822240"/>
            <a:ext cx="450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deas do we have as a whole grou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800280"/>
            <a:ext cx="456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with your team:  Which project on the paper, or that has been discussed do you want to t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58800" y="822240"/>
            <a:ext cx="477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you have 20 minutes to do something with your ide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ay go to another room, or stay here, and using the supplies provided, make something to promote summer reading to your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35040" y="811080"/>
            <a:ext cx="47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share what you have 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23880" y="846000"/>
            <a:ext cx="46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it feel to do this activity?  You watched a video, talked with colleagues, and did a project together with a common go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0:00:46Z</dcterms:created>
  <dc:creator>John Chapman</dc:creator>
  <dc:description/>
  <dc:language>en-US</dc:language>
  <cp:lastModifiedBy>John Chapman</cp:lastModifiedBy>
  <dcterms:modified xsi:type="dcterms:W3CDTF">2012-05-03T00:32:38Z</dcterms:modified>
  <cp:revision>3</cp:revision>
  <dc:subject/>
  <dc:title>AMS Summer Reading</dc:title>
</cp:coreProperties>
</file>